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971-28D3-4E18-A604-E97D7CE4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FA4-00BA-4FCA-89D8-9FD6D87B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D87-9A40-49BA-80FB-639B6CFE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627-93F0-4E0E-8B12-E3059348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F1E-E3C5-46A6-B9F0-33FF32AE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C2A-2215-4904-880F-3F653DF7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61B-2833-43CF-B52A-BBE1DECA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5C0-7F34-4A2A-B9F4-02B65980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6AB-4058-42E0-B4CD-E852589A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122-234B-4F5E-AEE1-D386252E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7EC-0290-4B28-AA7D-E78D0E3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111-706A-413D-83EE-11F9F1C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D8EAD-4D50-4D9F-91C1-CB3FA3EA7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99B6B-2877-468D-976E-E7A2B2C68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1:31:05Z</dcterms:created>
  <dc:creator>LAUSD User</dc:creator>
  <dc:description/>
  <dc:language>en-US</dc:language>
  <cp:lastModifiedBy>LAUSD User</cp:lastModifiedBy>
  <cp:lastPrinted>2010-10-29T16:45:41Z</cp:lastPrinted>
  <dcterms:modified xsi:type="dcterms:W3CDTF">2010-11-04T04:37:50Z</dcterms:modified>
  <cp:revision>24</cp:revision>
  <dc:subject/>
  <dc:title>Slide 1</dc:title>
</cp:coreProperties>
</file>